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2A2-C255-459D-BD8C-D53D8E49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B73E-4A5D-45C3-A60A-B8087BF2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083-8824-4DEE-8952-93ABE046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41E-B473-4BEC-962C-05A8B0B9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CAC-971A-4844-B060-0DBB206E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19E-E217-4B13-BAEF-BA1F6021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315-0337-40A8-865D-153FE52B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76FE-3955-4AC3-B9AD-9671D42C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73C-17B6-4FE8-93DE-1A467A10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D7C-39E0-4884-93B2-AE7C6BF2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318-B4C4-4253-9934-8385CB59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919-4363-4027-8F1A-681CC7EC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6BE4-5CD5-4DF0-943D-4999860AB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Пифагор – человек легенда и его теоре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Значение теоремы Пифаг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Теорема Пифагора - одна из главных теорем геометрии. Значение ее состоит в том, что из нее или с ее помощью можно вывести большинство теорем геометрии. Теорема Пифагора замечательна и тем, что сама по себе она вовсе не очевид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20160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ифагор Самос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ифагорейцы в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История теор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Доказательства теор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рименение теоремы к решению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Применение теоремы Пифагора в других нау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Значение теоремы Пифаг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ифагор Самос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Пифагор"/>
          <p:cNvPicPr/>
          <p:nvPr/>
        </p:nvPicPr>
        <p:blipFill>
          <a:blip r:embed="rId2"/>
          <a:stretch/>
        </p:blipFill>
        <p:spPr>
          <a:xfrm>
            <a:off x="468360" y="2349360"/>
            <a:ext cx="2552760" cy="338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59280" y="1844640"/>
            <a:ext cx="552924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ок. 570 - ок. 496 г.г. до н. э.) великий древнегреческий ученый родился на острове Самос. Еще в детстве он обнаружил большие способности к наукам. Он  посетил Египет, Вавилон, где прожил 12 лет. Говорят, что он был допущен в сокровенные святилища Египта, побывал у халдейских мудрецов и персидских магов. Пифагору удалось организовать свою школу, которая действовала почти тридцать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532720" y="6093000"/>
            <a:ext cx="409680" cy="482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Пифагорейцы в матема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ифагорейцы занимались накоплением абстрактных математических фактов и объединением их в теоретическую систему. Основным содержанием пифагорейской математики является учение о числе. Величайшим открытием стало открытие несоизмеримости велич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Теорема Пифаг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407664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вадрат гипотенузы равен         сумме квадратов кате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84360" y="1328760"/>
            <a:ext cx="424836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История теор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настоящее время известно, что эта теорема не была открыта Пифагором. Однако одни полагают, что Пифагор первым дал ее полноценное доказательство, а другие отказывают ему и в этой заслуге. История математики почти не сохранила достоверных данных о жизни Пифагора и его математическ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59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Доказательство теор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 самом деле, достаточно просто посмотреть на мозаику равнобедренных прямоугольных треугольников, чтобы убедиться в справедливости теоремы. Например, для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ΔABC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: квадрат, построенный на гипотенузе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АС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, содержит 4 исходных треугольника, а квадраты, построенные на катетах, - по два.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Теорема доказ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765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оказательство (простейше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Квадрат, построенный на гипотенузе прямоугольного треугольника, равновелик сумме квадратов, построенных на его катетах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Чертёж для доказательства №1"/>
          <p:cNvPicPr/>
          <p:nvPr/>
        </p:nvPicPr>
        <p:blipFill>
          <a:blip r:embed="rId2"/>
          <a:stretch/>
        </p:blipFill>
        <p:spPr>
          <a:xfrm>
            <a:off x="3492360" y="1989000"/>
            <a:ext cx="2016360" cy="2003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388360" y="6165720"/>
            <a:ext cx="431640" cy="5032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именение теоремы к решению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Мы приводим 16 доказательств теоремы Пифагора разных периодов времени. На самом деле их насчитывается почти 100. Но как бы теорема не доказывалась, смысл таков: «Квадрат гипотенузы равен сумме квадратов катетов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Применение теоремы Пифагора в других нау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В настоящее время успех многих областей науки и техники зависят от развития различных направлений математики. В зданиях готического и романского стиля верхние части окон расчленяются ребрами, которые играют роль орнамента и способствуют прочности окон. Крыши, молниеотводы. При и строительстве тоже используют расчеты по теореме Пифагора. И даже в мобильной связи она нашла свое приме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8:10:20Z</dcterms:created>
  <dc:creator>User</dc:creator>
  <dc:description/>
  <dc:language>en-US</dc:language>
  <cp:lastModifiedBy>123</cp:lastModifiedBy>
  <dcterms:modified xsi:type="dcterms:W3CDTF">2009-01-18T09:37:10Z</dcterms:modified>
  <cp:revision>8</cp:revision>
  <dc:subject/>
  <dc:title>Пифагор</dc:title>
</cp:coreProperties>
</file>